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wrong1.wav" ContentType="audio/x-wav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7D4-AC17-4E0A-ACEC-D7A286268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B55-D416-42B9-9208-3D830CA71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B0F-5E09-4C1A-A761-83ED7184D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D4E-BFD3-4E67-8FBA-96963653F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EA72-E21B-4BA5-817A-EE6ACAC63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694-DFFF-4121-9DE5-9AA1C794A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06C8-F7F5-4C3E-B61F-312B55BAA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F988-9457-4213-8C07-73A86A077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F0DF-59D5-413C-899B-994B7BEB3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98AB-4862-453D-BA20-6251E9DA0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37C2-C5A9-48FF-8F23-0D06F1157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490A-92FF-4A40-AE00-18BFD7865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66E6-F009-4BF3-97DA-75776F93A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E214-A467-4947-8189-97DAD6B7E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B8F-5197-40FA-9D4A-01A86655E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1B9E-7792-44C4-AB4C-8844267DC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7D4B-F513-4610-A357-E37E1DE62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73B-7255-45B0-992F-43D0893C1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2D24-4A9C-4AD5-B19A-6E0AE321C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675-4701-4D2B-98A1-ED316A0DB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500-4E9D-4DF0-BE8C-C8A7793DC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627B-D926-4448-B5BE-39E5B03EF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1E94-333C-4F68-925A-3F031CE87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07C5-6DD1-42E0-B947-58C1DF2C7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9B21-6287-4B6F-8447-D8812BD58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8396-6BEC-4B28-A6D0-BBD1842E9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3F4D-BB86-4518-8773-93F4B5932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4066-BD5E-4D04-B93D-B6D354394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27E6-4A4F-4F71-86D0-BAF1048DC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68A7-8224-48A8-AAAD-25A38561E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ABB-E7F2-467E-A85C-4D0870C8B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8EFB-1A0F-4DE6-AC3D-93E4E4A74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86B-6509-4C07-B519-23E95CEFA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C212-2872-47F5-85C6-9BDE4B9E9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0FC2-868A-4C60-9939-C190F7B48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5CDA-F6B7-4DE4-95ED-2E0E8FAD5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9E79-A98B-4E43-9D6F-2CBED90CE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585-2E2B-47B3-9308-B30654277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A0F-5749-4736-84D5-EE2CFFFBB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06C5-036A-41D6-B684-69EF67550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42A9-BACE-438C-99C9-54B559A36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B523-02AE-4DA3-97AD-095EC2945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AE48-591D-40A4-B271-7859A694A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6308-4BB1-47C2-A1D1-4C2DB9FB1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21F-A25E-425D-8DD7-4B6949689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D806-CF60-4DBE-9A0A-AE36D160C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7DE-8261-4131-9B0E-BB72E0C29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6C8-8929-47E4-94DB-F6F024404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4B08-D7D5-447C-ADF1-1FCBE5095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7F15-C37B-4922-B7EC-9AA00A1C7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80D-20C9-4E3F-9E64-C59CD03F0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67FE-00DA-4BA6-9BDF-D9F84495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701D-8CAD-47D2-A496-12E192EA1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F481-F7A6-412C-8170-C875C0D27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853-58FA-4C67-A446-9B50FB3A1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F1A-491E-43E1-8025-CC1B88E09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4B97-B95F-4085-A069-3F3C71E68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C91-7A45-4D0B-AC6A-188346134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AB6-A3A2-45C5-B02A-02F185919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0B6-0D49-4E53-A49E-8B397C781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FA5-44AE-41C6-AB67-A08B2DD9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1BF-632E-43F4-AF5B-F518598D5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A12-7797-41D3-BC55-ABCF17B91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DBB6-6F2D-4490-B65D-35DCE4A42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763-8A0D-464D-97E7-250CE11CF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541-81DF-46DF-9DD9-E564B3B66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CA84-9856-448C-9D32-2C10798B3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E01-3AAC-4921-B5E9-C0E9DFE8E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D2B-7CD7-415B-9080-B906B1EBC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CC6-9FF2-4F0D-AC42-1E2DEBC3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0A8-8951-457A-8FC1-74A1F2E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78E-1562-43D5-A506-7CF69722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442-F194-4DE4-82E8-6D5D00D3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E97-51AB-4985-B18D-C5AE5687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647-F6D6-436A-A3A8-AA75E90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3C2-5DF8-499F-9F01-B269693E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B1D-E9A1-4A82-A71B-E499682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3F7-BCF3-4B3E-87E7-ED483C49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F92-E91B-4A0C-9829-43FDDC5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67A-F18B-4FE1-9EAC-5FACD83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2E9-A4E1-4278-8174-C3C9EBB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C675-12EB-4317-AE56-3BB9A4F24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image" Target="../media/image9.jpeg"/><Relationship Id="rId10" Type="http://schemas.openxmlformats.org/officeDocument/2006/relationships/audio" Target="../media/wrong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196440" y="47545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arc Pre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31200" y="554688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marc@games2tra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www.marcprensk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13760" y="380880"/>
            <a:ext cx="3527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Dust or Magic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SPEED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5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mbertville N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+++++MP-head-hi res500x500"/>
          <p:cNvPicPr/>
          <p:nvPr/>
        </p:nvPicPr>
        <p:blipFill>
          <a:blip r:embed="rId1"/>
          <a:stretch/>
        </p:blipFill>
        <p:spPr>
          <a:xfrm>
            <a:off x="3295800" y="2127240"/>
            <a:ext cx="2495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52480" y="1924200"/>
            <a:ext cx="56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How many of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have sent an e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n the past 24 h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066680" y="914400"/>
            <a:ext cx="7086600" cy="4800600"/>
          </a:xfrm>
          <a:prstGeom prst="wedgeRoundRectCallout">
            <a:avLst>
              <a:gd name="adj1" fmla="val -47402"/>
              <a:gd name="adj2" fmla="val 615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Arial Black"/>
              </a:rPr>
              <a:t>“</a:t>
            </a:r>
            <a:r>
              <a:rPr b="0" lang="en-US" sz="6000" spc="-1" strike="noStrike">
                <a:solidFill>
                  <a:srgbClr val="3366ff"/>
                </a:solidFill>
                <a:latin typeface="Arial Black"/>
              </a:rPr>
              <a:t>Email i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old people</a:t>
            </a:r>
            <a:r>
              <a:rPr b="0" lang="en-US" sz="6000" spc="-1" strike="noStrike">
                <a:solidFill>
                  <a:srgbClr val="3366ff"/>
                </a:solidFill>
                <a:latin typeface="Arial Black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          – </a:t>
            </a: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310120" y="458316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– </a:t>
            </a: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A headline in The Chronicle of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28720" y="1636560"/>
            <a:ext cx="75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f technology conti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To double in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every year, how much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powerful  will it b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30 yea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97720" y="2438280"/>
            <a:ext cx="69307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7200" spc="-1" strike="noStrike" baseline="30000">
                <a:solidFill>
                  <a:srgbClr val="ffffff"/>
                </a:solidFill>
                <a:latin typeface="Arial Black"/>
              </a:rPr>
              <a:t>30</a:t>
            </a: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=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pprox. </a:t>
            </a: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1 bill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708200" y="2438280"/>
            <a:ext cx="5626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we are al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t the atomic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102440" y="7726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933480" y="14479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933120" y="5943600"/>
            <a:ext cx="782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 rot="16200000">
            <a:off x="-322200" y="24339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21840" y="617220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14280" y="6095880"/>
            <a:ext cx="45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      10   15   20    25   30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560" y="182880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Technology 1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times more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798600" y="457200"/>
            <a:ext cx="23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Machine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owerful tha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human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359880" y="2949480"/>
            <a:ext cx="30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mplanted / wea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Real-tim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857600" y="4038480"/>
            <a:ext cx="328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Handheld computer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ower of today’s super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03040" y="5006880"/>
            <a:ext cx="182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Mobil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wal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4495680" y="1600200"/>
            <a:ext cx="373392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5791320" y="380880"/>
            <a:ext cx="373356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Box 16"/>
          <p:cNvGrpSpPr/>
          <p:nvPr/>
        </p:nvGrpSpPr>
        <p:grpSpPr>
          <a:xfrm>
            <a:off x="1463760" y="195120"/>
            <a:ext cx="4035240" cy="779760"/>
            <a:chOff x="1463760" y="195120"/>
            <a:chExt cx="4035240" cy="779760"/>
          </a:xfrm>
        </p:grpSpPr>
        <p:pic>
          <p:nvPicPr>
            <p:cNvPr id="107" name="TextBox 16" descr=""/>
            <p:cNvPicPr/>
            <p:nvPr/>
          </p:nvPicPr>
          <p:blipFill>
            <a:blip r:embed="rId1"/>
            <a:stretch/>
          </p:blipFill>
          <p:spPr>
            <a:xfrm>
              <a:off x="1463760" y="195120"/>
              <a:ext cx="40352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27080" y="304920"/>
              <a:ext cx="314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cc"/>
                  </a:solidFill>
                  <a:latin typeface="Arial Black"/>
                </a:rPr>
                <a:t>Our Kids’ Wor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066680" y="609480"/>
            <a:ext cx="7010640" cy="4648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7200" spc="-1" strike="noStrike">
                <a:solidFill>
                  <a:srgbClr val="ff33cc"/>
                </a:solidFill>
                <a:latin typeface="Arial Black"/>
              </a:rPr>
              <a:t>My passion is my future.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                                          – </a:t>
            </a: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03480" y="1914480"/>
            <a:ext cx="67975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Most of us prefer to walk backward into the fu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03480" y="1981080"/>
            <a:ext cx="6797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…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a posture which may be uncomfortab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203480" y="1066680"/>
            <a:ext cx="6797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…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but which at least allows us </a:t>
            </a: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to keep on looking at familiar things as long as we can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-- Charles Handy</a:t>
            </a:r>
            <a:r>
              <a:rPr b="0" i="1" lang="en-US" sz="2000" spc="-1" strike="noStrike">
                <a:solidFill>
                  <a:srgbClr val="7f7f7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305480" y="65818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649160" y="487440"/>
            <a:ext cx="58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cc"/>
                </a:solidFill>
                <a:latin typeface="Arial Black"/>
              </a:rPr>
              <a:t>My Education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752480" y="2000160"/>
            <a:ext cx="701064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aster of Arts in Teaching (Y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aught High School Math (5 y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Ran a Street Acad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aught Elementary School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aught College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till Tutor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Have interviewed close to 1000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31808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© 2003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truck"/>
          <p:cNvPicPr/>
          <p:nvPr/>
        </p:nvPicPr>
        <p:blipFill>
          <a:blip r:embed="rId1"/>
          <a:stretch/>
        </p:blipFill>
        <p:spPr>
          <a:xfrm>
            <a:off x="457200" y="-1295280"/>
            <a:ext cx="8042400" cy="8610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 rot="19879200">
            <a:off x="4075200" y="303804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 rot="19540800">
            <a:off x="3773520" y="3325680"/>
            <a:ext cx="180324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 rot="19614000">
            <a:off x="3797280" y="277956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CENTURY EDU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Horn.wav" descr=""/>
          <p:cNvPicPr/>
          <p:nvPr/>
        </p:nvPicPr>
        <p:blipFill>
          <a:blip r:embed="rId2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83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102440" y="7726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933480" y="14479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933120" y="5943600"/>
            <a:ext cx="782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6200000">
            <a:off x="-322200" y="24339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439040" y="617220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955800" y="5645160"/>
            <a:ext cx="4360680" cy="190440"/>
          </a:xfrm>
          <a:prstGeom prst="pie">
            <a:avLst/>
          </a:prstGeom>
          <a:noFill/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5326200" y="5105520"/>
            <a:ext cx="1074600" cy="53316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6400800" y="861840"/>
            <a:ext cx="1828800" cy="420084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129480" y="220680"/>
            <a:ext cx="286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Our L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3276720" y="4662360"/>
            <a:ext cx="2971800" cy="520560"/>
            <a:chOff x="3276720" y="4662360"/>
            <a:chExt cx="2971800" cy="520560"/>
          </a:xfrm>
        </p:grpSpPr>
        <p:sp>
          <p:nvSpPr>
            <p:cNvPr id="137" name="Text Box 12"/>
            <p:cNvSpPr/>
            <p:nvPr/>
          </p:nvSpPr>
          <p:spPr>
            <a:xfrm>
              <a:off x="3276720" y="466236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 Black"/>
                </a:rPr>
                <a:t>We are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6019920" y="4952880"/>
              <a:ext cx="228600" cy="0"/>
            </a:xfrm>
            <a:prstGeom prst="line">
              <a:avLst/>
            </a:prstGeom>
            <a:ln w="152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4346280" y="1066680"/>
            <a:ext cx="1948680" cy="4876920"/>
            <a:chOff x="4346280" y="1066680"/>
            <a:chExt cx="1948680" cy="4876920"/>
          </a:xfrm>
        </p:grpSpPr>
        <p:sp>
          <p:nvSpPr>
            <p:cNvPr id="141" name="Line 16"/>
            <p:cNvSpPr/>
            <p:nvPr/>
          </p:nvSpPr>
          <p:spPr>
            <a:xfrm>
              <a:off x="5334120" y="1066680"/>
              <a:ext cx="0" cy="4876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4346280" y="2049480"/>
              <a:ext cx="194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Discontinuit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Digital 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56840" y="382680"/>
            <a:ext cx="647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hese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Jokerman"/>
              </a:rPr>
              <a:t>NEW TOOLS </a:t>
            </a: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COME FA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838080" y="2125800"/>
            <a:ext cx="8077320" cy="4794480"/>
            <a:chOff x="838080" y="2125800"/>
            <a:chExt cx="8077320" cy="4794480"/>
          </a:xfrm>
        </p:grpSpPr>
        <p:sp>
          <p:nvSpPr>
            <p:cNvPr id="146" name="Text Box 7"/>
            <p:cNvSpPr/>
            <p:nvPr/>
          </p:nvSpPr>
          <p:spPr>
            <a:xfrm>
              <a:off x="838080" y="2125800"/>
              <a:ext cx="403884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ped-up vide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icture Sear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IM/tex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Blo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ik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ikip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odca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hone poll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My Sp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Handhel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4572000" y="2133720"/>
              <a:ext cx="43434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2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plex Ga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eb 2.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eb 3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Augmented Rea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hone camer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hone vide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G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You Tu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MoSo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6212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ahoo search            Google search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ail                          I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Pod                          vPo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V                        You Tub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ard drives                Flas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4343400" y="205740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343400" y="304812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343400" y="403848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4343400" y="502920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…</a:t>
            </a: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and tool switching is already</a:t>
            </a:r>
            <a:br>
              <a:rPr sz="3600"/>
            </a:b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 close to instanta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343400" y="601992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7102440" y="7726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2990880" y="14479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H="1">
            <a:off x="2990880" y="5943600"/>
            <a:ext cx="4400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 rot="16200000">
            <a:off x="1734840" y="24339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120000" y="609588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192480" y="5410080"/>
            <a:ext cx="1074600" cy="53352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4267080" y="1166760"/>
            <a:ext cx="1828800" cy="420048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1726560" y="220680"/>
            <a:ext cx="567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 Black"/>
              </a:rPr>
              <a:t>Our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 Students’ </a:t>
            </a:r>
            <a:r>
              <a:rPr b="0" lang="en-US" sz="4800" spc="-1" strike="noStrike">
                <a:solidFill>
                  <a:srgbClr val="ff33cc"/>
                </a:solidFill>
                <a:latin typeface="Arial Black"/>
              </a:rPr>
              <a:t>L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1417680"/>
            <a:ext cx="67975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Black"/>
              </a:rPr>
              <a:t>[our kids were] </a:t>
            </a: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“born to the idea of rapid chang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-- Nicola Griffith in </a:t>
            </a:r>
            <a:r>
              <a:rPr b="0" i="1" lang="en-US" sz="2000" spc="-1" strike="noStrike">
                <a:solidFill>
                  <a:srgbClr val="7f7f7f"/>
                </a:solidFill>
                <a:latin typeface="Arial Black"/>
              </a:rPr>
              <a:t>Slow River  </a:t>
            </a: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(1995)</a:t>
            </a:r>
            <a:r>
              <a:rPr b="0" lang="en-US" sz="4400" spc="-1" strike="noStrike">
                <a:solidFill>
                  <a:srgbClr val="7f7f7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04920" y="685800"/>
            <a:ext cx="7238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The change that is 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THREATENING</a:t>
            </a:r>
            <a:br>
              <a:rPr sz="5400"/>
            </a:b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to the Immigr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04920" y="685800"/>
            <a:ext cx="7238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eece1"/>
                </a:solidFill>
                <a:latin typeface="Arial Black"/>
              </a:rPr>
              <a:t>The change that is </a:t>
            </a:r>
            <a:br>
              <a:rPr sz="5400"/>
            </a:br>
            <a:r>
              <a:rPr b="0" i="1" lang="en-US" sz="5400" spc="-1" strike="noStrike">
                <a:solidFill>
                  <a:srgbClr val="eeece1"/>
                </a:solidFill>
                <a:latin typeface="Arial Black"/>
              </a:rPr>
              <a:t>THREATENING</a:t>
            </a:r>
            <a:br>
              <a:rPr sz="5400"/>
            </a:br>
            <a:r>
              <a:rPr b="0" i="1" lang="en-US" sz="4400" spc="-1" strike="noStrike">
                <a:solidFill>
                  <a:srgbClr val="eeece1"/>
                </a:solidFill>
                <a:latin typeface="Arial Black"/>
              </a:rPr>
              <a:t>to the Immigr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590920" y="3733920"/>
            <a:ext cx="6476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cc"/>
                </a:solidFill>
                <a:latin typeface="Arial Black"/>
              </a:rPr>
              <a:t>…</a:t>
            </a:r>
            <a:r>
              <a:rPr b="0" i="1" lang="en-US" sz="5400" spc="-1" strike="noStrike">
                <a:solidFill>
                  <a:srgbClr val="ff33cc"/>
                </a:solidFill>
                <a:latin typeface="Arial Black"/>
              </a:rPr>
              <a:t>is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EMPOWERING</a:t>
            </a:r>
            <a:br>
              <a:rPr sz="5400"/>
            </a:b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 the nativ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 Black"/>
              </a:rPr>
              <a:t>It means we are going</a:t>
            </a:r>
            <a:br>
              <a:rPr sz="4000"/>
            </a:b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FAR TOO SLOW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ONCEPTUAL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O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66680" y="304920"/>
            <a:ext cx="72392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25472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gamestotrain5"/>
          <p:cNvPicPr/>
          <p:nvPr/>
        </p:nvPicPr>
        <p:blipFill>
          <a:blip r:embed="rId1"/>
          <a:stretch/>
        </p:blipFill>
        <p:spPr>
          <a:xfrm>
            <a:off x="3657600" y="304920"/>
            <a:ext cx="3276720" cy="782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095880" y="3049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805400" y="426960"/>
            <a:ext cx="572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Arial Black"/>
              </a:rPr>
              <a:t>Education                     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76520" y="2362320"/>
            <a:ext cx="746748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FL, L.A. Virtual Schools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hemistry Game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(MeC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hysics Game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(Waste of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eriodic Table Cell Phone Game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(Ele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Financial Literacy Game </a:t>
            </a:r>
            <a:r>
              <a:rPr b="0" lang="en-US" sz="1800" spc="-1" strike="noStrike">
                <a:solidFill>
                  <a:srgbClr val="ff33cc"/>
                </a:solidFill>
                <a:latin typeface="Arial Black"/>
              </a:rPr>
              <a:t>(Money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GAMES A LA CARTE – Make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gebra I Game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he Algebots, in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ing Teacher Game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 c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76520" y="176220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ducation Software/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DEVELOPMENT</a:t>
            </a: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O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TERAT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O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67760" y="2665440"/>
            <a:ext cx="32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Year =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onth =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eek =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57200" y="7621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Internet tim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45720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 can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(much) b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an tha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917160" y="27432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2108160" y="24382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ur brains go f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in unconscious m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1495080" y="2782800"/>
            <a:ext cx="61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ur tools are getting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310560" y="1469880"/>
            <a:ext cx="24987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SP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 Black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ST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Arial Black"/>
              </a:rPr>
              <a:t>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020760" y="1371600"/>
            <a:ext cx="301536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SP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00"/>
                </a:solidFill>
                <a:latin typeface="Arial Black"/>
              </a:rPr>
              <a:t>≠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cc"/>
                </a:solidFill>
                <a:latin typeface="Arial Black"/>
              </a:rPr>
              <a:t>STR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789480" y="914400"/>
            <a:ext cx="767736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SP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00"/>
                </a:solidFill>
                <a:latin typeface="Arial Black"/>
              </a:rPr>
              <a:t>=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Black"/>
              </a:rPr>
              <a:t>Excite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Black"/>
              </a:rPr>
              <a:t>Getting more d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423240" y="152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My Latest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14600" y="762120"/>
            <a:ext cx="4038480" cy="6019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bookcover_version3_coveronly copy"/>
          <p:cNvPicPr/>
          <p:nvPr/>
        </p:nvPicPr>
        <p:blipFill>
          <a:blip r:embed="rId1"/>
          <a:stretch/>
        </p:blipFill>
        <p:spPr>
          <a:xfrm>
            <a:off x="2514600" y="723960"/>
            <a:ext cx="4038480" cy="6057720"/>
          </a:xfrm>
          <a:prstGeom prst="rect">
            <a:avLst/>
          </a:prstGeom>
          <a:ln w="0">
            <a:noFill/>
          </a:ln>
        </p:spPr>
      </p:pic>
      <p:sp>
        <p:nvSpPr>
          <p:cNvPr id="68" name="Oval 5"/>
          <p:cNvSpPr/>
          <p:nvPr/>
        </p:nvSpPr>
        <p:spPr>
          <a:xfrm>
            <a:off x="2133720" y="685800"/>
            <a:ext cx="4952880" cy="9907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www.SocialImpactGames.com, and www.GamesParentsTeachers.com .  Marc holds an MBA from Harvard and a Masters in Teaching from Yale.  More of his writings can be found at www.marcprensky.com/writing/default.asp .  Marc can be contacted at marc@games2train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www.SocialImpactGames.com, and www.GamesParentsTeachers.com .  Marc holds an MBA from Harvard and a Masters in Teaching from Yale.  More of his writings can be found at www.marcprensky.com/writing/default.asp .  Marc can be contacted at marc@games2train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www.SocialImpactGames.com, and www.GamesParentsTeachers.com .  Marc holds an MBA from Harvard and a Masters in Teaching from Yale.  More of his writings can be found at www.marcprensky.com/writing/default.asp .  Marc can be contacted at marc@games2train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slowness.jpg"/>
          <p:cNvPicPr/>
          <p:nvPr/>
        </p:nvPicPr>
        <p:blipFill>
          <a:blip r:embed="rId9"/>
          <a:stretch/>
        </p:blipFill>
        <p:spPr>
          <a:xfrm>
            <a:off x="1752480" y="304920"/>
            <a:ext cx="5791320" cy="57909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2743200" y="914400"/>
            <a:ext cx="3352680" cy="5029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914400" y="76320"/>
            <a:ext cx="7467480" cy="76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066680" y="6019920"/>
            <a:ext cx="7467840" cy="76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457200" y="304920"/>
            <a:ext cx="2209680" cy="655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172200" y="228600"/>
            <a:ext cx="2209680" cy="6629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0" y="-720"/>
            <a:ext cx="9143640" cy="6630120"/>
            <a:chOff x="0" y="-720"/>
            <a:chExt cx="9143640" cy="6630120"/>
          </a:xfrm>
        </p:grpSpPr>
        <p:sp>
          <p:nvSpPr>
            <p:cNvPr id="241" name="Straight Connector 14"/>
            <p:cNvSpPr/>
            <p:nvPr/>
          </p:nvSpPr>
          <p:spPr>
            <a:xfrm>
              <a:off x="0" y="0"/>
              <a:ext cx="8915400" cy="6629400"/>
            </a:xfrm>
            <a:prstGeom prst="line">
              <a:avLst/>
            </a:prstGeom>
            <a:ln w="30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15"/>
            <p:cNvSpPr/>
            <p:nvPr/>
          </p:nvSpPr>
          <p:spPr>
            <a:xfrm flipH="1">
              <a:off x="228240" y="-720"/>
              <a:ext cx="8915400" cy="6629400"/>
            </a:xfrm>
            <a:prstGeom prst="line">
              <a:avLst/>
            </a:prstGeom>
            <a:ln w="30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6"/>
          <p:cNvSpPr/>
          <p:nvPr/>
        </p:nvSpPr>
        <p:spPr>
          <a:xfrm>
            <a:off x="5257800" y="1066680"/>
            <a:ext cx="762120" cy="609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366200" y="76320"/>
            <a:ext cx="654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re You Having A Good Sum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vacation1.jpg"/>
          <p:cNvPicPr/>
          <p:nvPr/>
        </p:nvPicPr>
        <p:blipFill>
          <a:blip r:embed="rId1"/>
          <a:stretch/>
        </p:blipFill>
        <p:spPr>
          <a:xfrm>
            <a:off x="-7537320" y="-228600"/>
            <a:ext cx="16681320" cy="7620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"/>
          <p:cNvSpPr/>
          <p:nvPr/>
        </p:nvSpPr>
        <p:spPr>
          <a:xfrm>
            <a:off x="2788200" y="228600"/>
            <a:ext cx="359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ld vacatio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+vacaciones.jpg"/>
          <p:cNvPicPr/>
          <p:nvPr/>
        </p:nvPicPr>
        <p:blipFill>
          <a:blip r:embed="rId1"/>
          <a:stretch/>
        </p:blipFill>
        <p:spPr>
          <a:xfrm>
            <a:off x="1676520" y="-12600"/>
            <a:ext cx="5779800" cy="68706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2856240" y="177840"/>
            <a:ext cx="37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w Vacatio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headache02"/>
          <p:cNvPicPr/>
          <p:nvPr/>
        </p:nvPicPr>
        <p:blipFill>
          <a:blip r:embed="rId1"/>
          <a:stretch/>
        </p:blipFill>
        <p:spPr>
          <a:xfrm>
            <a:off x="304920" y="1312920"/>
            <a:ext cx="3601800" cy="55450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4"/>
          <p:cNvSpPr/>
          <p:nvPr/>
        </p:nvSpPr>
        <p:spPr>
          <a:xfrm>
            <a:off x="4191120" y="380880"/>
            <a:ext cx="4724280" cy="4114800"/>
          </a:xfrm>
          <a:prstGeom prst="wedgeRoundRectCallout">
            <a:avLst>
              <a:gd name="adj1" fmla="val -68379"/>
              <a:gd name="adj2" fmla="val 32023"/>
              <a:gd name="adj3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will all this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END!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Arial Black"/>
              </a:rPr>
              <a:t>IT WON’T 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31080" y="1981080"/>
            <a:ext cx="7887960" cy="22874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We have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 Black"/>
              </a:rPr>
              <a:t>GET USED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the Idea of Rapid Cha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The world 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kids inha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is already hug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different from our 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1066680" y="609480"/>
            <a:ext cx="7010640" cy="4648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You look at technology as a tool. </a:t>
            </a: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We look at technology as a foundation</a:t>
            </a: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 – it’s totally integrated into what we d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                                          – </a:t>
            </a: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It’s tim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TURN AROUND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scream4.jpg"/>
          <p:cNvPicPr/>
          <p:nvPr/>
        </p:nvPicPr>
        <p:blipFill>
          <a:blip r:embed="rId1"/>
          <a:stretch/>
        </p:blipFill>
        <p:spPr>
          <a:xfrm>
            <a:off x="230508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FA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the fu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905120" y="533520"/>
            <a:ext cx="457200" cy="6324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85800" y="2438280"/>
            <a:ext cx="7772400" cy="180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Computer and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e Preparing Your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Twenty-first Century Su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How You Can Hel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228600" y="1676520"/>
            <a:ext cx="8763120" cy="3047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914400" y="692280"/>
            <a:ext cx="737856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143000" y="1523880"/>
            <a:ext cx="6934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Feel the fear 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Black"/>
              </a:rPr>
              <a:t>and do it anyway!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Black"/>
              </a:rPr>
              <a:t>-- Elizabeth Moon in </a:t>
            </a:r>
            <a:r>
              <a:rPr b="0" i="1" lang="en-US" sz="1600" spc="-1" strike="noStrike">
                <a:solidFill>
                  <a:srgbClr val="7f7f7f"/>
                </a:solidFill>
                <a:latin typeface="Arial Black"/>
              </a:rPr>
              <a:t>The Speed of Dark </a:t>
            </a:r>
            <a:r>
              <a:rPr b="0" lang="en-US" sz="1600" spc="-1" strike="noStrike">
                <a:solidFill>
                  <a:srgbClr val="7f7f7f"/>
                </a:solidFill>
                <a:latin typeface="Arial Black"/>
              </a:rPr>
              <a:t>(2003)</a:t>
            </a: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’s chang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nd how f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COMMUN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Away from read/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uge pent up demand for 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Technology en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Wit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To a world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Kids learning on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Technology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Interaction with experts and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Participati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Technology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cr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PROGRAMM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Specialized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PT, GameMaker, Crickets, Scr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76680" y="2514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Five Stages</a:t>
            </a:r>
            <a:br>
              <a:rPr sz="3600"/>
            </a:b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ople</a:t>
            </a:r>
            <a:br>
              <a:rPr sz="3600"/>
            </a:b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and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alligator.bmp"/>
          <p:cNvPicPr/>
          <p:nvPr/>
        </p:nvPicPr>
        <p:blipFill>
          <a:blip r:embed="rId1"/>
          <a:stretch/>
        </p:blipFill>
        <p:spPr>
          <a:xfrm>
            <a:off x="0" y="-1440"/>
            <a:ext cx="9296280" cy="6976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0" y="0"/>
            <a:ext cx="9296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45776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3509640" y="0"/>
            <a:ext cx="2102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. H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28.jpg"/>
          <p:cNvPicPr/>
          <p:nvPr/>
        </p:nvPicPr>
        <p:blipFill>
          <a:blip r:embed="rId1"/>
          <a:stretch/>
        </p:blipFill>
        <p:spPr>
          <a:xfrm>
            <a:off x="0" y="33480"/>
            <a:ext cx="9190080" cy="68245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296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3536640" y="0"/>
            <a:ext cx="1835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.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squid_table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296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3013560" y="0"/>
            <a:ext cx="31341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. Accep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CG_logo.gif"/>
          <p:cNvPicPr/>
          <p:nvPr/>
        </p:nvPicPr>
        <p:blipFill>
          <a:blip r:embed="rId1"/>
          <a:stretch/>
        </p:blipFill>
        <p:spPr>
          <a:xfrm>
            <a:off x="304920" y="2685960"/>
            <a:ext cx="853416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thaisnake.bmp"/>
          <p:cNvPicPr/>
          <p:nvPr/>
        </p:nvPicPr>
        <p:blipFill>
          <a:blip r:embed="rId1"/>
          <a:stretch/>
        </p:blipFill>
        <p:spPr>
          <a:xfrm>
            <a:off x="-20520" y="0"/>
            <a:ext cx="918504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311640" y="0"/>
            <a:ext cx="2466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. Com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+zebra-on-motorcycle-comedy-desktops.jpg"/>
          <p:cNvPicPr/>
          <p:nvPr/>
        </p:nvPicPr>
        <p:blipFill>
          <a:blip r:embed="rId1"/>
          <a:stretch/>
        </p:blipFill>
        <p:spPr>
          <a:xfrm>
            <a:off x="-304920" y="6858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3513240" y="0"/>
            <a:ext cx="2044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.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BARRI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 Black"/>
              </a:rPr>
              <a:t>Shar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not enoug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 Black"/>
              </a:rPr>
              <a:t>Struc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(not enough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 Black"/>
              </a:rPr>
              <a:t>Proprieta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(too much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600" y="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Intellectu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Proper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Emin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Domai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RIS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7914240" y="3049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Black"/>
              </a:rPr>
              <a:t>Mr. 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bean-dentist.wmv" descr=""/>
          <p:cNvPicPr/>
          <p:nvPr/>
        </p:nvPicPr>
        <p:blipFill>
          <a:blip r:embed="rId1"/>
          <a:stretch/>
        </p:blipFill>
        <p:spPr>
          <a:xfrm>
            <a:off x="914400" y="719280"/>
            <a:ext cx="73152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404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 rot="20136600">
            <a:off x="1947240" y="2544120"/>
            <a:ext cx="52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cc"/>
                </a:solidFill>
                <a:latin typeface="Harlow Solid Italic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68960" y="2057400"/>
            <a:ext cx="4044240" cy="22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o says 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kids can’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o ma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Rectangle 3"/>
          <p:cNvGrpSpPr/>
          <p:nvPr/>
        </p:nvGrpSpPr>
        <p:grpSpPr>
          <a:xfrm>
            <a:off x="158760" y="176040"/>
            <a:ext cx="8813880" cy="2043360"/>
            <a:chOff x="158760" y="176040"/>
            <a:chExt cx="8813880" cy="2043360"/>
          </a:xfrm>
        </p:grpSpPr>
        <p:pic>
          <p:nvPicPr>
            <p:cNvPr id="320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176040"/>
              <a:ext cx="881388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57200" y="304920"/>
              <a:ext cx="8229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00"/>
                  </a:solidFill>
                  <a:latin typeface="Arial Black"/>
                </a:rPr>
                <a:t>Continue the Dialog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00"/>
                  </a:solidFill>
                  <a:latin typeface="Arial Black"/>
                </a:rPr>
                <a:t>marc@games2train.co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Freeform 5"/>
          <p:cNvSpPr/>
          <p:nvPr/>
        </p:nvSpPr>
        <p:spPr>
          <a:xfrm rot="263400">
            <a:off x="3528720" y="3525480"/>
            <a:ext cx="1828800" cy="1434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046240" y="2666880"/>
            <a:ext cx="5054400" cy="3507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web sit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marcprensk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socialimpactgam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gamesparentsteacher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games2trai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indX.gif"/>
          <p:cNvPicPr/>
          <p:nvPr/>
        </p:nvPicPr>
        <p:blipFill>
          <a:blip r:embed="rId1"/>
          <a:stretch/>
        </p:blipFill>
        <p:spPr>
          <a:xfrm>
            <a:off x="685800" y="701640"/>
            <a:ext cx="7772400" cy="5454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 rot="20557800">
            <a:off x="1752120" y="2196720"/>
            <a:ext cx="6099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6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n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6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43880" y="10447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aling with the speed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9:34:10Z</dcterms:created>
  <dc:creator>Marc</dc:creator>
  <dc:description/>
  <dc:language>en-US</dc:language>
  <cp:lastModifiedBy>Marc</cp:lastModifiedBy>
  <dcterms:modified xsi:type="dcterms:W3CDTF">2007-11-09T18:38:21Z</dcterms:modified>
  <cp:revision>28</cp:revision>
  <dc:subject/>
  <dc:title>Slide 1</dc:title>
</cp:coreProperties>
</file>